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8AE-8AD6-4003-8D20-AD3446A0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6E9-8AB1-4CD0-841D-92151D05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0F5-AFF6-4A48-BD13-E8FD13C6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4C2-87F7-4208-9331-2AB38F60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B6C-3AE3-45F8-8803-A6228F84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825-EDE9-4FEB-B25A-B76C0ECF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598-D44F-43EE-832B-B16EBF12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C5E-03F5-472B-8C07-2E6EF9D9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D54-F1A9-488D-BBDC-A2CEB6FF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DB9-79C1-46A4-8D3B-354D3FE8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2A2-93E0-4659-B03C-77AED5BE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736-A3FF-4A5B-88B1-888045F6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016F-4798-4A6D-A623-9F1E07668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95560" y="1709640"/>
          <a:ext cx="495288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1709640"/>
                    <a:ext cx="4952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7:58:06Z</dcterms:created>
  <dc:creator>ajoshi</dc:creator>
  <dc:description/>
  <dc:language>en-US</dc:language>
  <cp:lastModifiedBy>ajoshi</cp:lastModifiedBy>
  <dcterms:modified xsi:type="dcterms:W3CDTF">2005-03-14T17:58:33Z</dcterms:modified>
  <cp:revision>1</cp:revision>
  <dc:subject/>
  <dc:title>PowerPoint Presentation</dc:title>
</cp:coreProperties>
</file>